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D7A-BA9B-4CBE-BBC9-6FD33398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F17-CCC5-4075-BDD9-147EFEC7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1FA-4FA8-468C-93CD-00A18562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1FE-77E3-4384-936F-CC267A85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E7B-C1A5-4E0A-BE7F-DCA9FDD0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6C8-7FFB-4844-B58E-1768A029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FF4-66B3-4F04-89D7-D013C661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16E-1F51-405E-9AA6-208B5B51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3D4-7DD6-47F4-9896-EF484FC1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28F-666F-4F08-BEDB-EC67940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38B-C2CF-4CE8-A979-83021FC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6B6-FFC9-4F50-B38C-1CB5385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2D80-0EED-402B-8CC2-90805F92D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7:16:55Z</dcterms:created>
  <dc:creator>Grupo Editorial</dc:creator>
  <dc:description/>
  <dc:language>en-US</dc:language>
  <cp:lastModifiedBy>Grupo Editorial</cp:lastModifiedBy>
  <dcterms:modified xsi:type="dcterms:W3CDTF">2001-11-21T17:21:49Z</dcterms:modified>
  <cp:revision>1</cp:revision>
  <dc:subject/>
  <dc:title>Sin título de diapositiva</dc:title>
</cp:coreProperties>
</file>